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gif" ContentType="image/gi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.gif" ContentType="image/gi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775-D46D-4799-84A0-6F16E953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5FA-5292-4B73-90CA-54CC86BE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637-A4DA-4C1F-9E65-FB130288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8D6-BF84-4CC7-8A52-1AE154C6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858-B64F-46DF-9973-89A96343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602-68DF-4D51-8538-48574C63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02F-2A06-4073-8037-67CCB793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244-E23A-42AC-BC5C-F860FCD1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988-88CA-4099-93CA-0886D003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9C7-55E6-42FD-9F26-BF3479CA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A88-16C3-4202-A88E-E1170CAE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CCC-B1DC-489A-A0D8-AC7FF00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B419-8F8F-4126-84AB-7A4BE0054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13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wmf"/><Relationship Id="rId3" Type="http://schemas.openxmlformats.org/officeDocument/2006/relationships/image" Target="../media/image2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333360"/>
            <a:ext cx="72007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ttle bear goes to the beac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96360" y="5753160"/>
            <a:ext cx="1547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mmy says always take some friends to the beach to look out for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2232000" cy="3152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95640" y="2060640"/>
            <a:ext cx="2016360" cy="1439640"/>
          </a:xfrm>
          <a:prstGeom prst="wedgeRectCallout">
            <a:avLst>
              <a:gd name="adj1" fmla="val -76773"/>
              <a:gd name="adj2" fmla="val 46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take some friends to the beach to look out for each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ddy knocked on Hippo’s d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09680" cy="261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21607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0360" y="1989000"/>
            <a:ext cx="1800360" cy="1152720"/>
          </a:xfrm>
          <a:prstGeom prst="wedgeEllipseCallout">
            <a:avLst>
              <a:gd name="adj1" fmla="val -43740"/>
              <a:gd name="adj2" fmla="val 54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Hippo lets go to the 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they collected B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360" y="2522520"/>
            <a:ext cx="22320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111720" cy="436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80000" y="2133720"/>
            <a:ext cx="1873440" cy="129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Possum lets go to the 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rived at the beach YAY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451640" y="5373720"/>
            <a:ext cx="1692360" cy="148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36000" y="530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6000" y="5373720"/>
            <a:ext cx="79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4000" y="5045040"/>
            <a:ext cx="1206360" cy="1812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924360" y="5483160"/>
            <a:ext cx="2016000" cy="1374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5373720"/>
            <a:ext cx="1297080" cy="360360"/>
          </a:xfrm>
          <a:prstGeom prst="wedgeRectCallout">
            <a:avLst>
              <a:gd name="adj1" fmla="val -33351"/>
              <a:gd name="adj2" fmla="val 142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373720"/>
            <a:ext cx="1224000" cy="5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ddy says to his frien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3311640" cy="2951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64000" y="3213000"/>
            <a:ext cx="2448000" cy="1295640"/>
          </a:xfrm>
          <a:prstGeom prst="wedgeRectCallout">
            <a:avLst>
              <a:gd name="adj1" fmla="val -42995"/>
              <a:gd name="adj2" fmla="val 69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o swim between the flags so you don’t get caught in a 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put on their sunscreen, their hats and their long sleeved shirts now their all protec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2771640" cy="208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594160" cy="203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528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ere  having a lovely time but they needed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3311640" cy="295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0360" y="3357720"/>
            <a:ext cx="1800000" cy="93636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on more sun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32000" y="2521080"/>
            <a:ext cx="29527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tle bear goes to the beach he need to pack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761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t lunch YUM YUM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52578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have a big drink of w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3032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they went back in the water and had a great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5014800"/>
            <a:ext cx="1151280" cy="1843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144144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419640" y="5384880"/>
            <a:ext cx="16556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time to go home so they dry them selves off with their towe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4248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ent to Bunny’s house and dropped her of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3311640" cy="2951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48360" y="4292640"/>
            <a:ext cx="2160360" cy="1473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51280" y="4005360"/>
            <a:ext cx="1225440" cy="718920"/>
          </a:xfrm>
          <a:prstGeom prst="wedgeEllipseCallout">
            <a:avLst>
              <a:gd name="adj1" fmla="val -43782"/>
              <a:gd name="adj2" fmla="val 46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e B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3429000"/>
            <a:ext cx="1224000" cy="720720"/>
          </a:xfrm>
          <a:prstGeom prst="wedgeEllipseCallout">
            <a:avLst>
              <a:gd name="adj1" fmla="val -55837"/>
              <a:gd name="adj2" fmla="val 100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e B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they went to Hippo’s house to Drop him 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3357720"/>
            <a:ext cx="3311640" cy="2950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84720" y="3573360"/>
            <a:ext cx="1582560" cy="503280"/>
          </a:xfrm>
          <a:prstGeom prst="wedgeRoundRectCallout">
            <a:avLst>
              <a:gd name="adj1" fmla="val -54111"/>
              <a:gd name="adj2" fmla="val 118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e hi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off to teddy’s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332000" y="1989000"/>
            <a:ext cx="5688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THE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508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By Meagan 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hat so his face doesn’t get bur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2541600"/>
            <a:ext cx="5184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ong sleeved shirt so his arms and shoulders don’t get bur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4105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8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sunscreen to protect his body remember don’t forget your ear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32000" y="2521080"/>
            <a:ext cx="29527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owel to dry himself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2828880"/>
            <a:ext cx="4248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of course don’t forget your lunch and a drink so you can have ENERGY!!!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52578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you drink lots of water so you don’t get dehydr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64000" y="2138400"/>
            <a:ext cx="23032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eddy's all pa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302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0:51:17Z</dcterms:created>
  <dc:creator>Admin</dc:creator>
  <dc:description/>
  <dc:language>en-US</dc:language>
  <cp:lastModifiedBy>Admin</cp:lastModifiedBy>
  <dcterms:modified xsi:type="dcterms:W3CDTF">2009-02-25T23:39:44Z</dcterms:modified>
  <cp:revision>4</cp:revision>
  <dc:subject/>
  <dc:title>Slide 1</dc:title>
</cp:coreProperties>
</file>